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5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F50-D7AC-4147-B35A-C43B19BC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AF0-AD9A-4D26-AEFD-86983FCAD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200B-FBA4-476E-B086-8F506EF4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5047-97EB-40EF-9701-F89A9231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2A2-A552-491C-90C5-95C727A1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F11C-CEF7-44BE-9907-C97FB7A1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A35-A45A-44BC-865A-5B613099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810-E71C-459C-BBED-C8A8DB76D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412-1D69-4408-98C9-CE77B473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9102-24B8-4F8B-86B8-BA14767A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6C07-2957-4B95-8BB8-0946F125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16C-6CFC-40AC-A1AE-C05FBE8A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B0AA-659A-4FD8-BAD9-A02BC126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9B45-0F19-4A47-ADAC-1776C04A7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F21-11F9-42DE-A666-C9C05BE8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7C39-B47E-4191-BE6E-158EFB7BE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FBD9-FD62-4F91-B338-F79881CD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D758-20F9-4CFE-8FA6-98AF321A2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B561-8FEB-4CC7-BB16-33562E62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3C97-C28F-4EA6-B900-03842A2B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42D9-A13B-45A6-B5CA-40790A20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71AF-1B56-4FE8-B182-6EA7BB18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2EA6-9060-463C-AC0A-2C083616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E0BF-2A40-4EF5-82D9-D8341C78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6EC-9699-4F95-B7BA-342B471D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322-6514-428C-8AFF-6AD4D2A5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6EED-FA3E-46EB-9DDC-BE1E53EB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5E4-B408-45E1-952B-7A27679E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C30-2D6A-47C2-B512-87C66D9A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6BA-B7C9-4B2F-8D40-A06577FF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CB3-22D5-4F00-829F-1A1C46FF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686-67D6-4CAC-AC1A-EB9300FA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957-E44A-41F8-9DA7-846F571E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C7C-32F2-4E96-9E6E-09CFF8F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EE6-DE6B-4035-AD54-1980D794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69F-3D0C-4A34-A294-10BFF99C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0A7-FF75-4759-8817-649B5E5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C88-F466-45CC-8E0C-35595D1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1A5-6E4C-4FDB-A52F-C6788F64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418"/>
            </a:gs>
            <a:gs pos="100000">
              <a:srgbClr val="fb17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5A39-A532-49EF-A2A5-029168168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.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ethod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40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5409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23cd"/>
                </a:solidFill>
                <a:latin typeface="Arial Rounded MT Bold"/>
              </a:rPr>
              <a:t>(what do you already know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= 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_______________ about your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et, books, interviews...but also make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 -using 5 senses to make an observation…only stating known facts (NO OPIN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23cd"/>
                </a:solidFill>
                <a:latin typeface="Arial"/>
              </a:rPr>
              <a:t>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286000" y="1752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105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057400" y="3352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105"/>
                </a:solidFill>
                <a:latin typeface="Arial"/>
              </a:rPr>
              <a:t>objective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62120" y="42670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3105"/>
                </a:solidFill>
                <a:latin typeface="Arial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aptop1"/>
          <p:cNvPicPr/>
          <p:nvPr/>
        </p:nvPicPr>
        <p:blipFill>
          <a:blip r:embed="rId1"/>
          <a:stretch/>
        </p:blipFill>
        <p:spPr>
          <a:xfrm>
            <a:off x="7391520" y="380880"/>
            <a:ext cx="1550880" cy="155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ReadingManiacs"/>
          <p:cNvPicPr/>
          <p:nvPr/>
        </p:nvPicPr>
        <p:blipFill>
          <a:blip r:embed="rId2"/>
          <a:stretch/>
        </p:blipFill>
        <p:spPr>
          <a:xfrm>
            <a:off x="6172200" y="5334120"/>
            <a:ext cx="1752480" cy="131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listen3"/>
          <p:cNvPicPr/>
          <p:nvPr/>
        </p:nvPicPr>
        <p:blipFill>
          <a:blip r:embed="rId3"/>
          <a:stretch/>
        </p:blipFill>
        <p:spPr>
          <a:xfrm>
            <a:off x="457200" y="68580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vc-cartoon"/>
          <p:cNvPicPr/>
          <p:nvPr/>
        </p:nvPicPr>
        <p:blipFill>
          <a:blip r:embed="rId4"/>
          <a:stretch/>
        </p:blipFill>
        <p:spPr>
          <a:xfrm>
            <a:off x="7467480" y="3429000"/>
            <a:ext cx="14256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= 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_____________ about a ___________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00400" y="3808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23cd"/>
                </a:solidFill>
                <a:latin typeface="Arial"/>
              </a:rPr>
              <a:t>HYPOTHE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828800" y="1600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3105"/>
                </a:solidFill>
                <a:latin typeface="Arial"/>
              </a:rPr>
              <a:t>educated gu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19320" y="2133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3105"/>
                </a:solidFill>
                <a:latin typeface="Arial"/>
              </a:rPr>
              <a:t>cause/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23040271"/>
          <p:cNvPicPr/>
          <p:nvPr/>
        </p:nvPicPr>
        <p:blipFill>
          <a:blip r:embed="rId1"/>
          <a:stretch/>
        </p:blipFill>
        <p:spPr>
          <a:xfrm>
            <a:off x="3352680" y="3733920"/>
            <a:ext cx="245916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76212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80880" y="1066680"/>
            <a:ext cx="8382240" cy="1191240"/>
          </a:xfrm>
          <a:prstGeom prst="rect">
            <a:avLst/>
          </a:prstGeom>
          <a:solidFill>
            <a:srgbClr val="e9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nders on a bicycle will keep the rider more dry when riding through puddles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PORT"/>
          <p:cNvPicPr/>
          <p:nvPr/>
        </p:nvPicPr>
        <p:blipFill>
          <a:blip r:embed="rId1"/>
          <a:stretch/>
        </p:blipFill>
        <p:spPr>
          <a:xfrm>
            <a:off x="0" y="2362320"/>
            <a:ext cx="4724280" cy="342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fondriest-with-fenders-789212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380880" y="304920"/>
            <a:ext cx="6096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HYPOTHE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8600" y="6019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stated using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….THEN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= 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the 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33720" y="6094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23cd"/>
                </a:solidFill>
                <a:latin typeface="Arial"/>
              </a:rPr>
              <a:t>EXPERIMENT (procedu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00400" y="1523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nders on a bicycle will keep the rider more dry when riding through puddles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4267080" y="2438280"/>
            <a:ext cx="533520" cy="175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groups in an experim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1828800"/>
          <a:ext cx="7696080" cy="38606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6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9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90e3"/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6d9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6d9e1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24"/>
          <p:cNvSpPr/>
          <p:nvPr/>
        </p:nvSpPr>
        <p:spPr>
          <a:xfrm>
            <a:off x="762120" y="2057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5029200" y="2057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914400" y="28954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 being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4648320" y="274320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ompare results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ther variables kep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6" descr="atlas bike"/>
          <p:cNvPicPr/>
          <p:nvPr/>
        </p:nvPicPr>
        <p:blipFill>
          <a:blip r:embed="rId1"/>
          <a:stretch/>
        </p:blipFill>
        <p:spPr>
          <a:xfrm>
            <a:off x="2286000" y="4267080"/>
            <a:ext cx="2209680" cy="1378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5"/>
          <p:cNvSpPr/>
          <p:nvPr/>
        </p:nvSpPr>
        <p:spPr>
          <a:xfrm>
            <a:off x="4648320" y="4952880"/>
            <a:ext cx="36576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e #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le leaves change color in the fall because light exposure decreases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LWBY089"/>
          <p:cNvPicPr/>
          <p:nvPr/>
        </p:nvPicPr>
        <p:blipFill>
          <a:blip r:embed="rId1"/>
          <a:stretch/>
        </p:blipFill>
        <p:spPr>
          <a:xfrm>
            <a:off x="2514600" y="2209680"/>
            <a:ext cx="1344600" cy="202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LLWBY089"/>
          <p:cNvPicPr/>
          <p:nvPr/>
        </p:nvPicPr>
        <p:blipFill>
          <a:blip r:embed="rId2"/>
          <a:stretch/>
        </p:blipFill>
        <p:spPr>
          <a:xfrm>
            <a:off x="5334120" y="2209680"/>
            <a:ext cx="1344600" cy="2025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0" y="4343400"/>
            <a:ext cx="9144000" cy="2305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tween the experimental and contro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What factors MUST stay the same? (think of 10 or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What is the ONE (and only) factor that should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light-stick-diagram"/>
          <p:cNvPicPr/>
          <p:nvPr/>
        </p:nvPicPr>
        <p:blipFill>
          <a:blip r:embed="rId1"/>
          <a:stretch/>
        </p:blipFill>
        <p:spPr>
          <a:xfrm>
            <a:off x="0" y="2438280"/>
            <a:ext cx="4208400" cy="4419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0" y="0"/>
            <a:ext cx="9144000" cy="254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e #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the temperature of a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wstick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s, the light intensity increas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4197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191120" y="3048120"/>
            <a:ext cx="4952880" cy="321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tween the experimental and contro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What factors MUST stay the same? (think of 3 or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What is the ONE (and only) factor that should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= 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666880" y="457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23cd"/>
                </a:solidFill>
                <a:latin typeface="Arial"/>
              </a:rPr>
              <a:t>RESULTS (record da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3581280"/>
          <a:ext cx="8229600" cy="3059280"/>
        </p:xfrm>
        <a:graphic>
          <a:graphicData uri="http://schemas.openxmlformats.org/drawingml/2006/table">
            <a:tbl>
              <a:tblPr/>
              <a:tblGrid>
                <a:gridCol w="1619280"/>
                <a:gridCol w="1484280"/>
                <a:gridCol w="1693800"/>
                <a:gridCol w="1690920"/>
                <a:gridCol w="174132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nce between each 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D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. Velo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ic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97"/>
          <p:cNvSpPr/>
          <p:nvPr/>
        </p:nvSpPr>
        <p:spPr>
          <a:xfrm>
            <a:off x="533520" y="1295280"/>
            <a:ext cx="75438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DATA TABLES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8"/>
          <p:cNvSpPr/>
          <p:nvPr/>
        </p:nvSpPr>
        <p:spPr>
          <a:xfrm flipH="1">
            <a:off x="4724280" y="3352680"/>
            <a:ext cx="15264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533520" y="2819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FOR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2"/>
          <p:cNvSpPr/>
          <p:nvPr/>
        </p:nvSpPr>
        <p:spPr>
          <a:xfrm>
            <a:off x="533520" y="2057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sistent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decimal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PHS: 3 ty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bargraph"/>
          <p:cNvPicPr/>
          <p:nvPr/>
        </p:nvPicPr>
        <p:blipFill>
          <a:blip r:embed="rId1"/>
          <a:stretch/>
        </p:blipFill>
        <p:spPr>
          <a:xfrm>
            <a:off x="533520" y="1600200"/>
            <a:ext cx="4724280" cy="2890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fruit_bargraph"/>
          <p:cNvPicPr/>
          <p:nvPr/>
        </p:nvPicPr>
        <p:blipFill>
          <a:blip r:embed="rId2"/>
          <a:stretch/>
        </p:blipFill>
        <p:spPr>
          <a:xfrm>
            <a:off x="5257800" y="1600200"/>
            <a:ext cx="3336840" cy="4648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380880" y="46483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BAR GRAPH - display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un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Science starts with what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barclay26"/>
          <p:cNvPicPr/>
          <p:nvPr/>
        </p:nvPicPr>
        <p:blipFill>
          <a:blip r:embed="rId1"/>
          <a:stretch/>
        </p:blipFill>
        <p:spPr>
          <a:xfrm>
            <a:off x="2666880" y="3095640"/>
            <a:ext cx="4942080" cy="376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rainbow"/>
          <p:cNvPicPr/>
          <p:nvPr/>
        </p:nvPicPr>
        <p:blipFill>
          <a:blip r:embed="rId2"/>
          <a:stretch/>
        </p:blipFill>
        <p:spPr>
          <a:xfrm>
            <a:off x="0" y="3675240"/>
            <a:ext cx="4572000" cy="31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fulgurite"/>
          <p:cNvPicPr/>
          <p:nvPr/>
        </p:nvPicPr>
        <p:blipFill>
          <a:blip r:embed="rId3"/>
          <a:stretch/>
        </p:blipFill>
        <p:spPr>
          <a:xfrm>
            <a:off x="0" y="2971800"/>
            <a:ext cx="3254400" cy="101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23127155"/>
          <p:cNvPicPr/>
          <p:nvPr/>
        </p:nvPicPr>
        <p:blipFill>
          <a:blip r:embed="rId4"/>
          <a:stretch/>
        </p:blipFill>
        <p:spPr>
          <a:xfrm>
            <a:off x="2971800" y="2971800"/>
            <a:ext cx="3174840" cy="20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braconid-wasp3"/>
          <p:cNvPicPr/>
          <p:nvPr/>
        </p:nvPicPr>
        <p:blipFill>
          <a:blip r:embed="rId5"/>
          <a:stretch/>
        </p:blipFill>
        <p:spPr>
          <a:xfrm>
            <a:off x="6613560" y="3957480"/>
            <a:ext cx="2530440" cy="29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12074worm"/>
          <p:cNvPicPr/>
          <p:nvPr/>
        </p:nvPicPr>
        <p:blipFill>
          <a:blip r:embed="rId6"/>
          <a:stretch/>
        </p:blipFill>
        <p:spPr>
          <a:xfrm>
            <a:off x="6113520" y="2971800"/>
            <a:ext cx="3030480" cy="1774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7"/>
          <p:cNvSpPr/>
          <p:nvPr/>
        </p:nvSpPr>
        <p:spPr>
          <a:xfrm>
            <a:off x="1143000" y="838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OBSERVA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0" y="152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rom these observations….we form ____________ and design experiments to find out mor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457200" y="1981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pie"/>
          <p:cNvPicPr/>
          <p:nvPr/>
        </p:nvPicPr>
        <p:blipFill>
          <a:blip r:embed="rId1"/>
          <a:stretch/>
        </p:blipFill>
        <p:spPr>
          <a:xfrm>
            <a:off x="0" y="28954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PIE (CIRC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914400" y="1295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displays percentages (out of 10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MTexam copy"/>
          <p:cNvPicPr/>
          <p:nvPr/>
        </p:nvPicPr>
        <p:blipFill>
          <a:blip r:embed="rId2"/>
          <a:stretch/>
        </p:blipFill>
        <p:spPr>
          <a:xfrm>
            <a:off x="4038480" y="2917800"/>
            <a:ext cx="51055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LINE GRAP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graph_line"/>
          <p:cNvPicPr/>
          <p:nvPr/>
        </p:nvPicPr>
        <p:blipFill>
          <a:blip r:embed="rId1"/>
          <a:stretch/>
        </p:blipFill>
        <p:spPr>
          <a:xfrm>
            <a:off x="1828800" y="2544840"/>
            <a:ext cx="5562720" cy="4313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26880" y="37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8088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s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connection) betwee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=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te the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71800" y="68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23cd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Kid"/>
          <p:cNvPicPr/>
          <p:nvPr/>
        </p:nvPicPr>
        <p:blipFill>
          <a:blip r:embed="rId1"/>
          <a:stretch/>
        </p:blipFill>
        <p:spPr>
          <a:xfrm>
            <a:off x="7197840" y="4038480"/>
            <a:ext cx="194616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762120" y="2895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 the data support or reject the  _______________?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nalyze the resul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62120" y="4952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s for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371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T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RROR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05320" y="1905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105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762120" y="335268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105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733920" y="4876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3105"/>
                </a:solidFill>
                <a:latin typeface="Arial"/>
              </a:rPr>
              <a:t>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= 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895480" y="457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23cd"/>
                </a:solidFill>
                <a:latin typeface="Arial"/>
              </a:rPr>
              <a:t>RETEST, REP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overview_scientific_method2-1"/>
          <p:cNvPicPr/>
          <p:nvPr/>
        </p:nvPicPr>
        <p:blipFill>
          <a:blip r:embed="rId1"/>
          <a:stretch/>
        </p:blipFill>
        <p:spPr>
          <a:xfrm>
            <a:off x="0" y="1289160"/>
            <a:ext cx="5791320" cy="5568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715000" y="182880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ality, science involves trial and error and often DOES NOT follow this rigid format!  This flow chart is a guid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hemistry Music Video 1 The Scientific Method.mp" descr="Macintosh HD:Users:s71678:Desktop:Chemistry Music Video 1 The Scientific Method.mp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228600" y="2819520"/>
            <a:ext cx="8610480" cy="331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SODA AND MENTOS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you know  (prior knowledge)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ece of lined paper in Lab/Activity Se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914400" y="1676520"/>
            <a:ext cx="7315200" cy="642600"/>
          </a:xfrm>
          <a:prstGeom prst="rect">
            <a:avLst/>
          </a:prstGeom>
          <a:solidFill>
            <a:srgbClr val="a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YTHING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838080" y="914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 PAPER…(listen to direc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os and Soda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28600" y="0"/>
            <a:ext cx="8610480" cy="33260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SODA AND MENTOS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id you observ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Be DETAILED and OBJEC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96608743_5dcb8bbfb3"/>
          <p:cNvPicPr/>
          <p:nvPr/>
        </p:nvPicPr>
        <p:blipFill>
          <a:blip r:embed="rId1"/>
          <a:stretch/>
        </p:blipFill>
        <p:spPr>
          <a:xfrm>
            <a:off x="3048120" y="3276720"/>
            <a:ext cx="2865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28600" y="685800"/>
            <a:ext cx="8610480" cy="331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SODA AND MENTOS?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ypothesize.  Why did this happen?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mentos_soda_pop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0"/>
            <a:ext cx="9144000" cy="168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SODA AND MENTOS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ariables are tested?  Explain the finding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066680" y="2438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</a:rPr>
              <a:t>Mythbusters Explain it Al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mythbusters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304920" y="3049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y does buttered toast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04920" y="6019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get more wet walking or running in the 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04920" y="2743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tting on a cell phone while pumping gas start a fir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04920" y="42670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penny dropped off of a skyscraper kill a pedestrian? (what about a bullet shot into the air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04920" y="1523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singer really break glass with his/her v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52280" y="533520"/>
            <a:ext cx="87631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1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e Vide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Vide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3780320515_e796ab935e"/>
          <p:cNvPicPr/>
          <p:nvPr/>
        </p:nvPicPr>
        <p:blipFill>
          <a:blip r:embed="rId1"/>
          <a:stretch/>
        </p:blipFill>
        <p:spPr>
          <a:xfrm>
            <a:off x="2590920" y="335268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533520"/>
            <a:ext cx="899172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2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detailed observations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rainstorm the five senses) Write one observation about this classroom for each of the 5 s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brainstorming"/>
          <p:cNvPicPr/>
          <p:nvPr/>
        </p:nvPicPr>
        <p:blipFill>
          <a:blip r:embed="rId1"/>
          <a:stretch/>
        </p:blipFill>
        <p:spPr>
          <a:xfrm>
            <a:off x="2362320" y="2971800"/>
            <a:ext cx="401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ruit and Vegetable Decomposition, Time-lapse.mp" descr="Macintosh HD:Users:s71678:Movies:Tooble Movies:Fruit and Vegetable Decomposition, Time-lapse.mp"/>
          <p:cNvPicPr/>
          <p:nvPr/>
        </p:nvPicPr>
        <p:blipFill>
          <a:blip r:embed="rId1"/>
          <a:stretch/>
        </p:blipFill>
        <p:spPr>
          <a:xfrm>
            <a:off x="762120" y="1087560"/>
            <a:ext cx="7696080" cy="577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52280" y="533520"/>
            <a:ext cx="87631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3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tery It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e item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gh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etailed observations.  Include at least 8 det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ithout saying what it really 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52280" y="533520"/>
            <a:ext cx="8763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3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DETAILED OBSERVATIONS AND FORMULATING QUESTIO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1"/>
          <p:cNvSpPr/>
          <p:nvPr/>
        </p:nvSpPr>
        <p:spPr>
          <a:xfrm>
            <a:off x="0" y="304920"/>
            <a:ext cx="8991720" cy="5410080"/>
          </a:xfrm>
          <a:prstGeom prst="cloudCallout">
            <a:avLst>
              <a:gd name="adj1" fmla="val -43731"/>
              <a:gd name="adj2" fmla="val 68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990720" y="1523880"/>
            <a:ext cx="6781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UE OR FALSE… EVERYTHING IN THIS ROOM IS RELATED TO SCIENC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YOUR REASON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7:08:33Z</dcterms:created>
  <dc:creator>Sarah Sewatsky User</dc:creator>
  <dc:description/>
  <dc:language>en-US</dc:language>
  <cp:lastModifiedBy>Science Faculty</cp:lastModifiedBy>
  <cp:lastPrinted>2009-09-07T21:25:41Z</cp:lastPrinted>
  <dcterms:modified xsi:type="dcterms:W3CDTF">2012-09-20T11:20:25Z</dcterms:modified>
  <cp:revision>45</cp:revision>
  <dc:subject/>
  <dc:title>The Scientific Method… …the process of science </dc:title>
</cp:coreProperties>
</file>